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1DD8-DAE1-4578-97FE-85F86847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7187-8164-4769-A102-73E9FBC7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7395-3796-4103-802C-888AEB5FB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97AB-01CF-459C-8144-BB2F13C9A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F1BE-D815-4D01-96B6-2D9894D8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195-9AF3-460C-944B-6C813CCA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1FFD-FA45-43D3-A100-FD62CDD8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9BFD-F433-4342-A5E5-A2C0232FD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273C-E1B7-4699-8D9E-4106DC9D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F5C1-190D-4A06-A468-C63545202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6482-3CE5-4BF4-B82E-19D684DD6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4816-FC55-418C-BAEB-166CBCC56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D171-04F5-4C83-A446-517A948F5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EBF1-12C9-4A75-9FA9-0D1B17BF2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493F-379F-47CF-BE3E-DDDA4CD37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19B0-B804-47BA-AD4A-06A093CAB5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B7C8-24BF-4B48-807B-E326EDA0A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1B20-4A3A-48D0-B314-28362CBF0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1E96-06B8-489F-9311-E26BD68B7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0522-BF26-42BD-9391-593B4562E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B1B6-67F6-4F27-BAE3-B40F297D5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1C69-D954-4B6E-953C-4897BB451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2435-388E-4646-AB94-0E31B650F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A006-5B84-47FC-8531-5DCF60A80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FCAB-865A-4F46-BE02-A0EAAE219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8C49-7D03-4365-A5C8-64C3DB48E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CED2E265-FF80-400F-993D-432FB6E75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FED2686D-EF19-40D4-BC7D-0970940275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4038480" y="3946680"/>
            <a:ext cx="4953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j’ai téléphoné chez toi. Je suis tomb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une fill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ait très gent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2" descr=""/>
          <p:cNvPicPr/>
          <p:nvPr/>
        </p:nvPicPr>
        <p:blipFill>
          <a:blip r:embed="rId1"/>
          <a:stretch/>
        </p:blipFill>
        <p:spPr>
          <a:xfrm>
            <a:off x="762120" y="2171880"/>
            <a:ext cx="3276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04844C42-4A1F-46D2-96B1-6129AEA04D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lative pronoun to represent the obje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reposition. Note that the preposition is retained and always precedes the relative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3191040"/>
          <a:ext cx="7010280" cy="146340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474920">
                <a:tc>
                  <a:txBody>
                    <a:bodyPr lIns="90000" rIns="900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e citron bio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lequel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vais faire la sauce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the organic lemon with which I am going to prepare the sau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rais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ur laquelle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suis ven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why (the reason for which) I ca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BA641D08-7F6E-4588-A83F-3A95D7D6C7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2514600" y="3662280"/>
            <a:ext cx="4114800" cy="15242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2514600" y="4643280"/>
            <a:ext cx="4114800" cy="1076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2514600" y="4195800"/>
            <a:ext cx="4114800" cy="76212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qu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in gender and number with the objects they represent. Remember, too, that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tractions may be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743200" y="3733920"/>
          <a:ext cx="4114800" cy="1981080"/>
        </p:xfrm>
        <a:graphic>
          <a:graphicData uri="http://schemas.openxmlformats.org/drawingml/2006/table">
            <a:tbl>
              <a:tblPr/>
              <a:tblGrid>
                <a:gridCol w="1800360"/>
                <a:gridCol w="257040"/>
                <a:gridCol w="2057400"/>
              </a:tblGrid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6371DC09-537F-44BB-9E2E-EA5A42D7AA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es not refer to people. If the object of the preposition is human, use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the pre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3351240"/>
          <a:ext cx="7772400" cy="1206360"/>
        </p:xfrm>
        <a:graphic>
          <a:graphicData uri="http://schemas.openxmlformats.org/drawingml/2006/table">
            <a:tbl>
              <a:tblPr/>
              <a:tblGrid>
                <a:gridCol w="3429000"/>
                <a:gridCol w="716040"/>
                <a:gridCol w="362736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une relati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 laqu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peux comp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a relationship I 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 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femm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qui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 très li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the woman with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 is very close-kn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A79387A7-C550-47DF-AE8A-A43C77F728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lative pronoun refers to an unspecified antecedent,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o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ofte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514600"/>
          <a:ext cx="9220320" cy="3772080"/>
        </p:xfrm>
        <a:graphic>
          <a:graphicData uri="http://schemas.openxmlformats.org/drawingml/2006/table">
            <a:tbl>
              <a:tblPr/>
              <a:tblGrid>
                <a:gridCol w="4965840"/>
                <a:gridCol w="4254480"/>
              </a:tblGrid>
              <a:tr h="379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roblèm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roblem t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vian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eat t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ingrédi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gredients t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08D9006C-FFF1-431F-A48D-B5679B2405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pronouns are used to link two ideas containing a common element into a single, complex sentence, thereby eliminating the repetition of the common element. The relative pronoun to use is determined by the grammatical function of the noun it replaces,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49566264-5EA3-4F5E-B078-EAA71EC16A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ntences below, the common element, or antecedent,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ubject of the second sentence,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3657600"/>
          <a:ext cx="8458200" cy="2133720"/>
        </p:xfrm>
        <a:graphic>
          <a:graphicData uri="http://schemas.openxmlformats.org/drawingml/2006/table">
            <a:tbl>
              <a:tblPr/>
              <a:tblGrid>
                <a:gridCol w="2313000"/>
                <a:gridCol w="2563560"/>
                <a:gridCol w="3581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l’enfa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 who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81" descr="p101"/>
          <p:cNvPicPr/>
          <p:nvPr/>
        </p:nvPicPr>
        <p:blipFill>
          <a:blip r:embed="rId1"/>
          <a:stretch/>
        </p:blipFill>
        <p:spPr>
          <a:xfrm>
            <a:off x="2209680" y="3683160"/>
            <a:ext cx="60984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5"/>
          <p:cNvGrpSpPr/>
          <p:nvPr/>
        </p:nvGrpSpPr>
        <p:grpSpPr>
          <a:xfrm>
            <a:off x="7848360" y="3428640"/>
            <a:ext cx="609480" cy="304920"/>
            <a:chOff x="7848360" y="3428640"/>
            <a:chExt cx="609480" cy="304920"/>
          </a:xfrm>
        </p:grpSpPr>
        <p:sp>
          <p:nvSpPr>
            <p:cNvPr id="64" name="Line 36"/>
            <p:cNvSpPr/>
            <p:nvPr/>
          </p:nvSpPr>
          <p:spPr>
            <a:xfrm flipV="1">
              <a:off x="8445240" y="342864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7"/>
            <p:cNvSpPr/>
            <p:nvPr/>
          </p:nvSpPr>
          <p:spPr>
            <a:xfrm flipH="1">
              <a:off x="7848360" y="34290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8"/>
            <p:cNvSpPr/>
            <p:nvPr/>
          </p:nvSpPr>
          <p:spPr>
            <a:xfrm>
              <a:off x="7848720" y="34290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81" descr="p101"/>
          <p:cNvPicPr/>
          <p:nvPr/>
        </p:nvPicPr>
        <p:blipFill>
          <a:blip r:embed="rId2"/>
          <a:stretch/>
        </p:blipFill>
        <p:spPr>
          <a:xfrm>
            <a:off x="4495680" y="365760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30FD71C4-2CD2-4900-948D-077A0C7473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 direc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2700360"/>
          <a:ext cx="8153280" cy="2108160"/>
        </p:xfrm>
        <a:graphic>
          <a:graphicData uri="http://schemas.openxmlformats.org/drawingml/2006/table">
            <a:tbl>
              <a:tblPr/>
              <a:tblGrid>
                <a:gridCol w="2133360"/>
                <a:gridCol w="2667240"/>
                <a:gridCol w="335268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      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found the salm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that I fou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81" descr="p101"/>
          <p:cNvPicPr/>
          <p:nvPr/>
        </p:nvPicPr>
        <p:blipFill>
          <a:blip r:embed="rId1"/>
          <a:stretch/>
        </p:blipFill>
        <p:spPr>
          <a:xfrm>
            <a:off x="2133720" y="272556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1" descr="p101"/>
          <p:cNvPicPr/>
          <p:nvPr/>
        </p:nvPicPr>
        <p:blipFill>
          <a:blip r:embed="rId2"/>
          <a:stretch/>
        </p:blipFill>
        <p:spPr>
          <a:xfrm>
            <a:off x="4876920" y="2700360"/>
            <a:ext cx="6094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6"/>
          <p:cNvGrpSpPr/>
          <p:nvPr/>
        </p:nvGrpSpPr>
        <p:grpSpPr>
          <a:xfrm>
            <a:off x="6157440" y="2514240"/>
            <a:ext cx="852480" cy="304920"/>
            <a:chOff x="6157440" y="2514240"/>
            <a:chExt cx="852480" cy="304920"/>
          </a:xfrm>
        </p:grpSpPr>
        <p:sp>
          <p:nvSpPr>
            <p:cNvPr id="76" name="Line 8"/>
            <p:cNvSpPr/>
            <p:nvPr/>
          </p:nvSpPr>
          <p:spPr>
            <a:xfrm flipV="1">
              <a:off x="6991920" y="2514240"/>
              <a:ext cx="180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H="1">
              <a:off x="6157440" y="2514600"/>
              <a:ext cx="85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615780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42FFEF72-41C2-48A3-A976-E06641669F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23960" y="1571760"/>
          <a:ext cx="7696080" cy="2550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79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1330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nglish, relative pronouns can sometimes be omitted. Relative pronouns cannot be omitted in Fren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arent que j’ai perdu récemment était mon arrière-grand-père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lative (whom) I lost is was my great-grand-fath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C73FB3E4-6A66-4821-9C23-C85EE0849A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st participle that follows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s in gender and number with its antece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09480" y="26956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a tart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u a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ai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était délicieu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pie that you made was delicio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B5338BB6-967A-42D4-8377-64F2618D5D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tand for a place or a tim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t 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768760"/>
          <a:ext cx="8076960" cy="251460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un supéret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peut trouver des produits biologiqu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a min-market where you can find organic foo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phone-moi au mom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re nièce arr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 me the moment that (when) our niece arriv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3" name="Group 23"/>
          <p:cNvGrpSpPr/>
          <p:nvPr/>
        </p:nvGrpSpPr>
        <p:grpSpPr>
          <a:xfrm>
            <a:off x="1980720" y="2514240"/>
            <a:ext cx="914040" cy="304920"/>
            <a:chOff x="1980720" y="2514240"/>
            <a:chExt cx="914040" cy="304920"/>
          </a:xfrm>
        </p:grpSpPr>
        <p:sp>
          <p:nvSpPr>
            <p:cNvPr id="94" name="Line 24"/>
            <p:cNvSpPr/>
            <p:nvPr/>
          </p:nvSpPr>
          <p:spPr>
            <a:xfrm flipV="1">
              <a:off x="2875680" y="2514240"/>
              <a:ext cx="1908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H="1">
              <a:off x="1980720" y="251460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198108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3200040" y="3733560"/>
            <a:ext cx="609480" cy="304920"/>
            <a:chOff x="3200040" y="3733560"/>
            <a:chExt cx="609480" cy="304920"/>
          </a:xfrm>
        </p:grpSpPr>
        <p:sp>
          <p:nvSpPr>
            <p:cNvPr id="98" name="Line 5"/>
            <p:cNvSpPr/>
            <p:nvPr/>
          </p:nvSpPr>
          <p:spPr>
            <a:xfrm flipV="1">
              <a:off x="3796920" y="373356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"/>
            <p:cNvSpPr/>
            <p:nvPr/>
          </p:nvSpPr>
          <p:spPr>
            <a:xfrm flipH="1">
              <a:off x="3200040" y="37339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3200400" y="37339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0E907A5D-AA01-442B-AFC6-B42560D99A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n object of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320" y="2921040"/>
          <a:ext cx="8991360" cy="2108160"/>
        </p:xfrm>
        <a:graphic>
          <a:graphicData uri="http://schemas.openxmlformats.org/drawingml/2006/table">
            <a:tbl>
              <a:tblPr/>
              <a:tblGrid>
                <a:gridCol w="2144520"/>
                <a:gridCol w="2884680"/>
                <a:gridCol w="396216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l’hypermarch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 (that)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ab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81" descr="p101"/>
          <p:cNvPicPr/>
          <p:nvPr/>
        </p:nvPicPr>
        <p:blipFill>
          <a:blip r:embed="rId1"/>
          <a:stretch/>
        </p:blipFill>
        <p:spPr>
          <a:xfrm>
            <a:off x="4648320" y="292104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1" descr="p101"/>
          <p:cNvPicPr/>
          <p:nvPr/>
        </p:nvPicPr>
        <p:blipFill>
          <a:blip r:embed="rId2"/>
          <a:stretch/>
        </p:blipFill>
        <p:spPr>
          <a:xfrm>
            <a:off x="1752480" y="2946240"/>
            <a:ext cx="6098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7"/>
          <p:cNvGrpSpPr/>
          <p:nvPr/>
        </p:nvGrpSpPr>
        <p:grpSpPr>
          <a:xfrm>
            <a:off x="7756560" y="2666520"/>
            <a:ext cx="761760" cy="304920"/>
            <a:chOff x="7756560" y="2666520"/>
            <a:chExt cx="761760" cy="304920"/>
          </a:xfrm>
        </p:grpSpPr>
        <p:sp>
          <p:nvSpPr>
            <p:cNvPr id="109" name="Line 8"/>
            <p:cNvSpPr/>
            <p:nvPr/>
          </p:nvSpPr>
          <p:spPr>
            <a:xfrm flipV="1">
              <a:off x="8502120" y="2666520"/>
              <a:ext cx="1584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>
              <a:off x="7756560" y="266688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7756560" y="266688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103DB3BF-09EC-4D20-B816-960D280C58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dicate possessio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2616120"/>
          <a:ext cx="7086600" cy="279396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enfant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e père est autoritaire sont souvent pun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ren, whose father is strict, are often punishe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1-20T22:26:36Z</dcterms:modified>
  <cp:revision>171</cp:revision>
  <dc:subject>D'accord! 3 • D'accord! 3 • Leçon 6: Les générations qui bougent</dc:subject>
  <dc:title>6.2 Demonstrative pronouns</dc:title>
</cp:coreProperties>
</file>